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brad" initials="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9-11-14T15:12:50.853000000" idx="1">
    <p:pos x="5760" y="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B877-E72D-4F24-8EB4-26203BDE1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79AF-7087-41CE-9785-7BB39E0FF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D7F-8EDC-4DA8-9E99-A6776C41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CE0-ABE3-4791-8F76-AABA234C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2E5-B85F-41FB-99F5-DE6D237D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8F4-A543-4A0B-9809-710E685B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D079-6E6D-486D-8F6A-125D2E4F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BA67-4937-4542-8166-1FF94756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8E55-336E-4259-9532-B8BE1D4C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95D8-9CEF-48E5-95FE-7AC906D2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E616-3DA0-4B77-B16E-AD9F4057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9E57-E305-4448-B108-C25DEAEC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B4F7-2675-4C75-9458-9D8D7662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342-37ED-4C96-944C-2591108E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B649-2E9C-4773-A669-A2DA996D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D1EE-C86F-47F3-A0D3-95F7BF1E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4B40-D0BD-4CC3-9038-9DBBAD76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B6FB-9EBB-4A86-8F76-6E5271B0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4150-3765-4687-BDEF-3A21F354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C0F2-60AA-48A1-AE8A-AFCB675D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D99A-11EC-4C67-9B80-0F2A1270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280E-CFF7-431E-B975-21C6EFF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61FE-7719-4209-BA42-8A2EB8D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3E23-AE86-4ECD-9A60-25FF2D37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462-1A78-4272-B13F-9359B460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C1C3-E04E-4E28-8441-B6210B24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DED71-A11D-4360-A7DE-19D78455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5023-2345-4BB1-BE27-C606EBCC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9A15-D40B-46C2-B869-4D9941B3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9CA9-0C4B-4BBF-8BC5-3869A409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E7FA-77A8-418F-B331-513BF71D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14F4-C27E-415D-8B73-52085A42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29A2-44B9-456E-93A0-006CF4DA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1D03-9B1D-4DA0-863D-F0AFAAFD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F363-4187-44AC-B6EA-51518310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F9D-DB8D-46DC-92A2-12F33EE3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5EB7-52AD-4CAB-A2A8-7BD0DC45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F646-F215-479D-8B82-D489F8A7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0AAC9-8343-424F-BA84-4D57A8E6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235B-A4AE-4604-86CE-AB14058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8339-317C-43BA-9E2F-60A5BBB8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8D937-80EF-496E-8E4D-B852C6B9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40BD-C1A6-4778-AB9C-97A5E3A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AAAF-7CFF-4624-BA40-8EAFE441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29CB-E86A-444B-865F-7D661D52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1CA-098F-4501-95CD-30599332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B5A-EF3A-4E1C-98C2-FF7292CB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DF0-8D94-4A10-9F71-C5BDB9C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C90-A8EE-49D0-97D2-3626A768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070-A141-41AF-801D-40292238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440A-C3EF-4768-A20B-F7C5CFF9752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B8F1-47B4-4930-938F-BCFD4376E25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DCD8-F706-45BD-8481-364D8B4DACA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8AB2-91FA-40E5-B424-ED56332A241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rdowling.com/612-monsoon.html" TargetMode="External"/><Relationship Id="rId2" Type="http://schemas.openxmlformats.org/officeDocument/2006/relationships/hyperlink" Target="http://www.ammusart.com/html/story_of_shiva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990720" y="533520"/>
            <a:ext cx="7391160" cy="548640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"/>
              </a:rPr>
              <a:t>Shiva’s Fi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98880" y="40590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y: Abby McCo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1504800" cy="2238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8120" y="60948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Two good links I found were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8120" y="18288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mrdowling.com/612-monsoon.html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on monsoon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nother was 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ammusart.com/html/story_of_shiva.html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on Shiva the Indian Go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317520" y="1706400"/>
            <a:ext cx="86803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c30b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0880" y="152280"/>
            <a:ext cx="8458200" cy="6477120"/>
          </a:xfrm>
          <a:prstGeom prst="rect">
            <a:avLst/>
          </a:prstGeom>
          <a:solidFill>
            <a:srgbClr val="c966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272880"/>
            <a:ext cx="8381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바탕"/>
                <a:ea typeface="바탕"/>
              </a:rPr>
              <a:t>Meet                            Suzanne Fisher Staples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바탕"/>
                <a:ea typeface="바탕"/>
              </a:rPr>
              <a:t>       The Author</a:t>
            </a:r>
            <a:br>
              <a:rPr sz="20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orn in Philadelphia &amp; grew up in Pennsylvan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Graduated from Keystone Collage &amp; Cedar Colla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fter school went to work as reporter and traveled around the worl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he has written several other novels including The Green Dog, Shabanu, and Storm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on many awards and citations including Newbery Honor 1990 &amp;New York Times Outstanding Book of The Yea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e96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04920" y="228600"/>
            <a:ext cx="8534160" cy="6095880"/>
          </a:xfrm>
          <a:prstGeom prst="rect">
            <a:avLst/>
          </a:prstGeom>
          <a:solidFill>
            <a:srgbClr val="a5c249"/>
          </a:solidFill>
          <a:ln w="25560">
            <a:solidFill>
              <a:srgbClr val="edf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Felix Titling"/>
              </a:rPr>
              <a:t>Plo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From the day Parvati is born its clear she is unlike other children.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At an early age she starts to realize her gifts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The gift music &amp; dance, ability to speak to things inhuman such as birds and snakes and remember her infant yea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As she grows she is banned from dance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Some miracles/visions she worked as a child: tamed a wild cobra danced, in the flames and was unburned, and saw the wooden shrine of Shiva dance at night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hen she is still young a guru comes to see her roamers spread fas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The guru asks Parvati to join him at a gurukulam were she will become a devadas and worship the gods through danc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She excepts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And pretty soon is at the gurukulam except when ever she gets near fire she will here a strange sort of music so she must avoid flam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eets friend Nalini but soon Nalini falls in love with with a man who steals from the rich and gives to the poor(an out law) and he takes her away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Gets invited to do her first public appearance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eets a boy named Rama and falls in love with him  but devadas students cant marry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737b8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UT THAT IS WERE I HAVE TO STOP BECAUSE I CANT GIVE AWAY    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HE  ENDING!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228600" y="152280"/>
            <a:ext cx="8610480" cy="6553440"/>
          </a:xfrm>
          <a:prstGeom prst="rect">
            <a:avLst/>
          </a:prstGeom>
          <a:solidFill>
            <a:srgbClr val="aeeb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 rot="20279400">
            <a:off x="0" y="166320"/>
            <a:ext cx="30384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 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               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Sett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008160" cy="469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ook Shiva’s Fire takes place in Southern Ind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author notes that the village of Anandanagar and the district state called Nandipuram are fictional plac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5313240" y="533520"/>
            <a:ext cx="3830760" cy="3581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1447920" y="35812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04920" y="228600"/>
            <a:ext cx="8381880" cy="6248520"/>
          </a:xfrm>
          <a:prstGeom prst="rect">
            <a:avLst/>
          </a:prstGeom>
          <a:solidFill>
            <a:srgbClr val="89edf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2819520" cy="99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617b"/>
                </a:solidFill>
                <a:latin typeface="comic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omic"/>
              </a:rPr>
              <a:t>         </a:t>
            </a:r>
            <a:r>
              <a:rPr b="1" lang="en-US" sz="1600" spc="-1" strike="noStrike">
                <a:solidFill>
                  <a:srgbClr val="0070c0"/>
                </a:solidFill>
                <a:latin typeface="comic"/>
              </a:rPr>
              <a:t>Important </a:t>
            </a:r>
            <a:br>
              <a:rPr sz="1600"/>
            </a:br>
            <a:r>
              <a:rPr b="1" lang="en-US" sz="2900" spc="-1" strike="noStrike">
                <a:solidFill>
                  <a:srgbClr val="0070c0"/>
                </a:solidFill>
                <a:latin typeface="comic"/>
              </a:rPr>
              <a:t>Character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2840040" cy="3117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b0f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The main character in the book Shiva’s fire is Parvati, a girl who’s gifted from the star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Amma or Meenakshi: Parvati’s mother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Nalini: Parvati’s best friend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Uncle  Sathya &amp; Auntie: Parvati’s uncle and aun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Parvati's brothers, Venkat &amp; Venu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Rama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6488280" y="1676520"/>
            <a:ext cx="265572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96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304920" y="228600"/>
            <a:ext cx="8381880" cy="6324480"/>
          </a:xfrm>
          <a:prstGeom prst="rect">
            <a:avLst/>
          </a:prstGeom>
          <a:solidFill>
            <a:srgbClr val="f5d3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2625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바탕"/>
                <a:ea typeface="바탕"/>
              </a:rPr>
              <a:t>Conflict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3008160" cy="3822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mma doesn't want Parvati to dance but she was born to dance in Shiva’s Flames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Parvati’s death causes a series of later more unfortunate events ends in death, hunger, and poverty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Parvati’s friend goes away with Myappan the man who steals from the rich and gives to the po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Parvati looses all her guru’s jewelry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Dosent know is she should quit being a devadasi to be with Ram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4800600" y="1066680"/>
            <a:ext cx="3352680" cy="3886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http://www.historyforkids.org/learn/india/religion/pictures/shiva.jpg"/>
          <p:cNvPicPr/>
          <p:nvPr/>
        </p:nvPicPr>
        <p:blipFill>
          <a:blip r:embed="rId2"/>
          <a:stretch/>
        </p:blipFill>
        <p:spPr>
          <a:xfrm>
            <a:off x="6400800" y="12952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http://www.usagold.com/gold/coins/pics/pre-1933-coins.jpeg"/>
          <p:cNvPicPr/>
          <p:nvPr/>
        </p:nvPicPr>
        <p:blipFill>
          <a:blip r:embed="rId3"/>
          <a:stretch/>
        </p:blipFill>
        <p:spPr>
          <a:xfrm>
            <a:off x="5105520" y="1295280"/>
            <a:ext cx="1365120" cy="1676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http://www.freefoto.com/images/33/15/33_15_57---Fire-Flame-Textures_web.jpg"/>
          <p:cNvPicPr/>
          <p:nvPr/>
        </p:nvPicPr>
        <p:blipFill>
          <a:blip r:embed="rId4"/>
          <a:stretch/>
        </p:blipFill>
        <p:spPr>
          <a:xfrm>
            <a:off x="5105520" y="297180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f83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33520" y="380880"/>
            <a:ext cx="8381880" cy="6172200"/>
          </a:xfrm>
          <a:prstGeom prst="rect">
            <a:avLst/>
          </a:prstGeom>
          <a:solidFill>
            <a:srgbClr val="25cb0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http://bbs.chinadaily.com.cn/attachments/month_0904/monsoon-trivandrum-392870-sw_Kl52Gbrmvs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2133720" y="762120"/>
            <a:ext cx="5410080" cy="4952880"/>
          </a:xfrm>
          <a:prstGeom prst="rect">
            <a:avLst/>
          </a:prstGeom>
          <a:solidFill>
            <a:srgbClr val="ffffff">
              <a:alpha val="35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419112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ench Script MT"/>
              </a:rPr>
              <a:t>Monsoons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123720" y="914400"/>
            <a:ext cx="300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onso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 Shiva’s Fire the first clap of thunder from the first monsoon was a signal that the gods had been pleased by the offering of gold give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very summer the sky opens up and rain pours down on Ind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onsoons come from moist air masses from the Indian Ocean as they move south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ave an annual appearance in Ind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ave very high wind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igh temperatur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igh moister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 winter winds blow from land to sea in summer winds blow from sea to lan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16440" y="123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http://personal.telefonica.terra.es/web/indra-regalos/dioses/fotohindu/shiva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1905120" y="457200"/>
            <a:ext cx="472428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981080" y="457200"/>
            <a:ext cx="57913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Worshiping of the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Idle Sh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Shiva destroyed the world and used dance to restore 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Known also as Rud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Worshipped as a form of Hinduis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Known as the destro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Said to have destroyed ea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Symbol is the sn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Has a third eye in middle of fore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62644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04920" y="304920"/>
            <a:ext cx="8305560" cy="6095880"/>
          </a:xfrm>
          <a:prstGeom prst="rect">
            <a:avLst/>
          </a:prstGeom>
          <a:solidFill>
            <a:srgbClr val="7f437b"/>
          </a:solidFill>
          <a:ln w="25560">
            <a:solidFill>
              <a:srgbClr val="752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733920" y="75960"/>
            <a:ext cx="30081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e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838080" y="1295280"/>
            <a:ext cx="3200400" cy="3200400"/>
          </a:xfrm>
          <a:prstGeom prst="rect">
            <a:avLst/>
          </a:prstGeom>
          <a:solidFill>
            <a:srgbClr val="11dff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heme in the beginning of the book is hunger and povert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vati and her family must live in a crumbling mud room off there uncle and auntie’s hou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money Parvati makes being a devadas her family builds a new home and small far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2381400" cy="2079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5029200" y="3378240"/>
            <a:ext cx="2743200" cy="1328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22:24:10Z</dcterms:created>
  <dc:creator>brad</dc:creator>
  <dc:description/>
  <dc:language>en-US</dc:language>
  <cp:lastModifiedBy>Merritt</cp:lastModifiedBy>
  <dcterms:modified xsi:type="dcterms:W3CDTF">2009-11-18T03:58:37Z</dcterms:modified>
  <cp:revision>79</cp:revision>
  <dc:subject/>
  <dc:title>Siva’s Fire</dc:title>
</cp:coreProperties>
</file>